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29DF4-14BA-403D-9750-A5F6FC2D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E47DF-E8A2-419E-A314-2DED61FB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CBEF5-6D71-4962-8D74-42664938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9A90-210D-47AD-8962-EFF7C7B6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BCCF-EA8F-42AD-B3D4-54796823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E3C8-5218-458C-8FA3-716D5DCB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C245-44BC-4A41-80B0-FF0D48B5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2B31-9732-4D70-8D3A-B5A1A867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B0D7-4700-42E0-A5FE-97D4E1F0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D9A7-66DE-4442-A6B0-4716DBE3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BBED-6E2E-44C8-AA22-A7DD5355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4563B-2F38-40EE-B4AD-A94DDDE5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5905-D732-420A-92BB-83208453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C2DF-BAE0-4A02-B71D-1C99EBFA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C665-0601-4CF3-8D0C-CE3379FB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2CF0-1A1A-4420-AD23-DCF3FEFB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75B3-D2A7-4170-B5FA-8B59161D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3705D-4594-4FA4-B3C1-089E2F2F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CE52A-1618-4E4F-A3D0-9A8D475F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A77A6-03F9-4EAD-9E15-74ED0E9B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0D964-C983-4F5D-A2AC-D672EB55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E23D5-8DD4-4D8D-A2D4-0031FB23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97BF-DECE-4A15-803A-7D4FC22B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EFB93-8064-4784-9C96-3BE5DCD6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96E7-1A6C-4237-89E0-733092AA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7B6E7-9C47-412B-B6A7-BA9AC49C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2198-4A3E-4D22-9700-1E8E9373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B5B8-4A0A-4FB7-A5DD-022F8CF2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14E7F-42BD-4A9A-8E7C-A1D5BCCE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9379-29E8-4234-87B6-CD7C1F72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6DF31-39D7-434F-A4DF-F15AC5EF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EF5C-0AD7-495C-9C58-45DFA49C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0559-23B0-4705-8535-4F7F8E7A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97DC-E465-4906-BD8F-0000447D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3079-4C43-4CBA-B7C0-078F8460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ABE5-B1CE-4E62-AD1B-B01878BB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0B1A-4579-4C41-A862-3C3DCA7CE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DD7D-4CD8-4CC6-B03E-7108AE724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D9D6-0183-4658-8DA2-82D4B1310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e5e5ff"/>
                </a:solidFill>
                <a:latin typeface="Comic Sans MS"/>
              </a:rPr>
              <a:t>Mon corps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56000" y="5013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e b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780000" y="1628640"/>
          <a:ext cx="1568160" cy="29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628640"/>
                    <a:ext cx="1568160" cy="29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63640" y="263700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Comic Sans MS"/>
              </a:rPr>
              <a:t>Vocabulai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916360" y="1700280"/>
            <a:ext cx="3168360" cy="2606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92360" y="49417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 tê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211640" y="3068640"/>
            <a:ext cx="3983040" cy="1608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32000" y="981000"/>
            <a:ext cx="1800000" cy="1463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2924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Un oe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7640" y="4724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es ye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68360" y="458136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es cheve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348000" y="1413000"/>
          <a:ext cx="280836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13000"/>
                    <a:ext cx="280836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51280" y="1052640"/>
            <a:ext cx="1965240" cy="280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771640" y="443700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a 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1914480" cy="2735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4642920" y="2349360"/>
            <a:ext cx="1513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472428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4653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e n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03640" y="2060640"/>
            <a:ext cx="2736720" cy="1520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700360" y="4221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a bou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292360" y="162864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48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Une lèv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1555560" cy="2592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4581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Une ore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7:42:11Z</dcterms:created>
  <dc:creator>juana</dc:creator>
  <dc:description/>
  <dc:language>en-US</dc:language>
  <cp:lastModifiedBy>juana</cp:lastModifiedBy>
  <dcterms:modified xsi:type="dcterms:W3CDTF">2012-04-19T18:14:16Z</dcterms:modified>
  <cp:revision>6</cp:revision>
  <dc:subject/>
  <dc:title>Mon corps</dc:title>
</cp:coreProperties>
</file>